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209-5D3F-47F8-9E3C-EDD8A1C4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C95-6137-4C47-934B-2D020A9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896-8A46-4DE6-8B53-C0EEA07B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849-A1BB-4DC0-BD57-F8B6062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0A9-7228-47C3-822C-91BAC3A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10F-AE7D-482C-8944-0AF761F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828-E367-4FC6-B251-0CB1E628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002-16AF-40AE-8F85-3C91B425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208-4CE5-45A5-B3CE-1C0EDBB4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986-A42A-426B-9DDE-0FA0F62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CFE-6A7E-414E-ADC7-2B871FC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E33-0F13-4492-8B76-9D132D1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4C5-5070-46B5-AE45-96726304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666880"/>
            <a:ext cx="5715000" cy="3353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48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dash"/>
                  <a:miter/>
                </a:ln>
                <a:solidFill>
                  <a:srgbClr val="ff0000"/>
                </a:solidFill>
                <a:latin typeface="Arial Black"/>
              </a:rPr>
              <a:t>FIRE IS NOT A JOKE</a:t>
            </a:r>
            <a:endParaRPr b="0" lang="en-US" sz="1800" spc="1" strike="noStrike">
              <a:ln w="9360">
                <a:solidFill>
                  <a:srgbClr val="000000"/>
                </a:solidFill>
                <a:prstDash val="dash"/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8334360"/>
            <a:ext cx="114300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5600" y="6580080"/>
            <a:ext cx="1922400" cy="256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43000" y="6259680"/>
            <a:ext cx="3733920" cy="288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934320"/>
            <a:ext cx="114156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523880" y="0"/>
            <a:ext cx="5334120" cy="229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952880" y="4495680"/>
            <a:ext cx="1905120" cy="205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371760" y="4648320"/>
            <a:ext cx="1428840" cy="155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143000" y="5105520"/>
            <a:ext cx="133992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447920" cy="16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905120" y="388620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9:36:30Z</dcterms:created>
  <dc:creator> </dc:creator>
  <dc:description/>
  <dc:language>en-US</dc:language>
  <cp:lastModifiedBy> </cp:lastModifiedBy>
  <dcterms:modified xsi:type="dcterms:W3CDTF">2009-09-17T20:28:27Z</dcterms:modified>
  <cp:revision>3</cp:revision>
  <dc:subject/>
  <dc:title>Slide 1</dc:title>
</cp:coreProperties>
</file>